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0.wmf" ContentType="image/x-wmf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4.wmf" ContentType="image/x-wmf"/>
  <Override PartName="/ppt/media/image8.jpeg" ContentType="image/jpeg"/>
  <Override PartName="/ppt/media/image10.jpeg" ContentType="image/jpeg"/>
  <Override PartName="/ppt/media/image30.wmf" ContentType="image/x-wmf"/>
  <Override PartName="/ppt/media/image33.jpeg" ContentType="image/jpeg"/>
  <Override PartName="/ppt/media/image5.wmf" ContentType="image/x-wmf"/>
  <Override PartName="/ppt/media/image27.jpeg" ContentType="image/jpeg"/>
  <Override PartName="/ppt/media/image28.wmf" ContentType="image/x-wmf"/>
  <Override PartName="/ppt/media/image9.wmf" ContentType="image/x-wmf"/>
  <Override PartName="/ppt/media/image39.wmf" ContentType="image/x-wmf"/>
  <Override PartName="/ppt/media/image40.jpeg" ContentType="image/jpeg"/>
  <Override PartName="/ppt/media/image35.png" ContentType="image/png"/>
  <Override PartName="/ppt/media/image38.jpeg" ContentType="image/jpeg"/>
  <Override PartName="/ppt/media/image31.wmf" ContentType="image/x-wmf"/>
  <Override PartName="/ppt/media/image36.jpeg" ContentType="image/jpeg"/>
  <Override PartName="/ppt/media/image11.jpeg" ContentType="image/jpeg"/>
  <Override PartName="/ppt/media/image37.wmf" ContentType="image/x-wmf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12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5.jpeg" ContentType="image/jpeg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731-2D0A-47A7-A705-A2D6A2BF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BAEC-2BC3-4AB4-A7F6-E743730C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D4B-8B7C-4BD2-8072-3768A8D8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BC2-337F-407D-85F7-309650ED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E19E-DCEA-4E62-8166-ED0778A9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9CA-C3A5-427E-AD56-91787DA5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21B-E1B4-4B56-A2EE-1C197FC5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73BC-3B1D-4675-8B03-F43C075B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21E-98B8-47D1-9BDF-F732B1BC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867F-C9F2-441E-B7B6-FD696C4E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C3A4-C6E2-4D0B-9016-21363A79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CA29-1F56-4E6C-972C-C5F0AD09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AF08-37AA-4506-866E-78C14348AF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Using SOME or ALL of these digits and symbols, make as many different sums as possib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2  4  6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04920" y="48006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+   =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57200" y="5943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y to work out the answer too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219320" y="28954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09480" y="38088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Think of as many ways to complete this word as possibl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09480" y="3505320"/>
            <a:ext cx="8077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600" spc="-1" strike="noStrike">
                <a:solidFill>
                  <a:srgbClr val="000000"/>
                </a:solidFill>
                <a:latin typeface="Comic Sans MS"/>
              </a:rPr>
              <a:t>f_______t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685800" y="1523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Think of as many things to eat or drink that begin with the letter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657600" y="2819520"/>
            <a:ext cx="1600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1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83868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4"/>
          <p:cNvGraphicFramePr/>
          <p:nvPr/>
        </p:nvGraphicFramePr>
        <p:xfrm>
          <a:off x="380880" y="4876920"/>
          <a:ext cx="1467000" cy="17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876920"/>
                    <a:ext cx="14670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7"/>
          <p:cNvSpPr/>
          <p:nvPr/>
        </p:nvSpPr>
        <p:spPr>
          <a:xfrm>
            <a:off x="432432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7543440" y="2590920"/>
          <a:ext cx="108900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440" y="2590920"/>
                    <a:ext cx="1089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633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4724280" y="2514600"/>
          <a:ext cx="39420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514600"/>
                    <a:ext cx="3942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4"/>
          <p:cNvSpPr/>
          <p:nvPr/>
        </p:nvSpPr>
        <p:spPr>
          <a:xfrm>
            <a:off x="380880" y="6858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Comic Sans MS"/>
              </a:rPr>
              <a:t>Think of as many countries as you can that begin with the letter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57200" y="2362320"/>
            <a:ext cx="3733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1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96ab9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Using SOME or ALL of these digits and symbols, make as many different sums as possib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3  6  9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04920" y="48006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-   =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57200" y="5943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y to work out the answer too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145728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www.halbergman.com/photos/safe_ladder_full.jpg"/>
          <p:cNvPicPr/>
          <p:nvPr/>
        </p:nvPicPr>
        <p:blipFill>
          <a:blip r:embed="rId1"/>
          <a:stretch/>
        </p:blipFill>
        <p:spPr>
          <a:xfrm>
            <a:off x="990720" y="1523880"/>
            <a:ext cx="7619760" cy="5056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609480" y="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Why is this ladder here?  Describe what can be seen and heard on the other side of the wall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1066680" y="380880"/>
            <a:ext cx="6858000" cy="26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What would Sleeping Beauty pack in her suitcase? Why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37339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752480" y="533520"/>
            <a:ext cx="563904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The answer is 24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Think of at least TEN questions which get this answer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8764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2438280" y="3581280"/>
            <a:ext cx="42674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Using SOME or ALL of these digits and symbols, make as many different sums as possib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1  5  7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48006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+   =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57200" y="5943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y to work out the answer too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290520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www.civilization.ca/cwm/boer/images/strathcona_boots_19970017-008.jpg"/>
          <p:cNvPicPr/>
          <p:nvPr/>
        </p:nvPicPr>
        <p:blipFill>
          <a:blip r:embed="rId1"/>
          <a:stretch/>
        </p:blipFill>
        <p:spPr>
          <a:xfrm>
            <a:off x="380880" y="990720"/>
            <a:ext cx="4000680" cy="5029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4343400" y="228600"/>
            <a:ext cx="4191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Who is wearing these boots?  Where are they going?  Why have they chosen these boots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609480" y="685800"/>
            <a:ext cx="784872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If you had to go on journey to moon which two people  would you choose to go with and why?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63852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4343400" y="3048120"/>
            <a:ext cx="4572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0" y="1619280"/>
            <a:ext cx="91440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www.fvalk.com/images/Arctic/1991/polar%20bear%20tracks.jpg"/>
          <p:cNvPicPr/>
          <p:nvPr/>
        </p:nvPicPr>
        <p:blipFill>
          <a:blip r:embed="rId1"/>
          <a:stretch/>
        </p:blipFill>
        <p:spPr>
          <a:xfrm>
            <a:off x="533520" y="2286000"/>
            <a:ext cx="8076960" cy="40752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33520" y="838080"/>
            <a:ext cx="80769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ndy"/>
                <a:ea typeface="Times New Roman"/>
              </a:rPr>
              <a:t>Look at this track, what left it, where has it come from and why was it her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914040"/>
            <a:ext cx="74674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Write as many “real life” objects that you can think of  that are square…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48006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02904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308592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274320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http://acrossindonesia.com/Korowai%20treehouse.jpg"/>
          <p:cNvPicPr/>
          <p:nvPr/>
        </p:nvPicPr>
        <p:blipFill>
          <a:blip r:embed="rId1"/>
          <a:stretch/>
        </p:blipFill>
        <p:spPr>
          <a:xfrm>
            <a:off x="3981600" y="457200"/>
            <a:ext cx="462888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304920" y="838080"/>
            <a:ext cx="3429000" cy="5476680"/>
          </a:xfrm>
          <a:prstGeom prst="rect">
            <a:avLst/>
          </a:prstGeom>
          <a:solidFill>
            <a:srgbClr val="c8e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Explain HOW  you would build this treehous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What would be the problems involved?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What would be the great things about living in this treehouse?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33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09480" y="380880"/>
            <a:ext cx="807732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Think of as many ways to complete this word as possibl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09480" y="3505320"/>
            <a:ext cx="8077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600" spc="-1" strike="noStrike">
                <a:solidFill>
                  <a:srgbClr val="000000"/>
                </a:solidFill>
                <a:latin typeface="Comic Sans MS"/>
              </a:rPr>
              <a:t>st_______n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4114800" y="609480"/>
            <a:ext cx="4648320" cy="536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Name as many towns and cities in the United Kingdom (UK)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 you can.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346560" cy="44960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0" y="2076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Using SOME or ALL of these digits and symbols, make as many different sums as possib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2  5  8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04920" y="48006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+   =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200" y="5943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y to work out the answer too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69576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828800" cy="2057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380988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3733920" y="533520"/>
            <a:ext cx="1523880" cy="1981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380988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>
            <a:off x="6400800" y="533520"/>
            <a:ext cx="1523880" cy="20001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762120" y="2743200"/>
            <a:ext cx="1828800" cy="8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undae  1,10€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733920" y="2666880"/>
            <a:ext cx="1485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olly  50c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6400800" y="2666880"/>
            <a:ext cx="1486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ce cream cone 1,05€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1523880" y="4038480"/>
            <a:ext cx="525780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You have 5€ to spend what will you buy and how much change will you have? How many different answers can you mak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52280" y="1143000"/>
            <a:ext cx="61722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ndy"/>
                <a:ea typeface="Arial Unicode MS"/>
              </a:rPr>
              <a:t>If you met a cave man what would you </a:t>
            </a:r>
            <a:r>
              <a:rPr b="1" lang="en-GB" sz="4800" spc="-1" strike="noStrike">
                <a:solidFill>
                  <a:srgbClr val="000000"/>
                </a:solidFill>
                <a:latin typeface="Andy"/>
                <a:ea typeface="Times New Roman"/>
              </a:rPr>
              <a:t>ask him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02904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3276720" y="2438280"/>
          <a:ext cx="5257800" cy="423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2438280"/>
                    <a:ext cx="5257800" cy="42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2928960" y="9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http://www.lukeburrage.com/jpgs/ArtOfJugglingDresden04.jpg"/>
          <p:cNvPicPr/>
          <p:nvPr/>
        </p:nvPicPr>
        <p:blipFill>
          <a:blip r:embed="rId1"/>
          <a:stretch/>
        </p:blipFill>
        <p:spPr>
          <a:xfrm>
            <a:off x="0" y="0"/>
            <a:ext cx="45673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4495680" y="0"/>
            <a:ext cx="4648320" cy="3445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Think of “wow words” or phrases to describe this picture</a:t>
            </a: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5181480" y="3505320"/>
            <a:ext cx="2514600" cy="1600200"/>
          </a:xfrm>
          <a:prstGeom prst="cloudCallout">
            <a:avLst>
              <a:gd name="adj1" fmla="val -73865"/>
              <a:gd name="adj2" fmla="val -5138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at can you see, hear and smel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5334120" y="4952880"/>
            <a:ext cx="3276360" cy="1752840"/>
          </a:xfrm>
          <a:prstGeom prst="cloudCallout">
            <a:avLst>
              <a:gd name="adj1" fmla="val -79652"/>
              <a:gd name="adj2" fmla="val -1557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ow does it make you fee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5800" y="533520"/>
            <a:ext cx="7848720" cy="457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Write as many facts as you can about </a:t>
            </a:r>
            <a:r>
              <a:rPr b="0" lang="en-GB" sz="13000" spc="-1" strike="noStrike">
                <a:solidFill>
                  <a:srgbClr val="ff0000"/>
                </a:solidFill>
                <a:latin typeface="Cooper Black"/>
                <a:ea typeface="Times New Roman"/>
              </a:rPr>
              <a:t>100</a:t>
            </a:r>
            <a:endParaRPr b="1" lang="en-US" sz="1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oper Black"/>
              </a:rPr>
              <a:t>Eg.  It is an even numb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Using SOME or ALL of these digits and symbols, make as many different sums as possib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2  3  4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04920" y="48006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x   =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57200" y="5943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y to work out the answer too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533520" y="1143000"/>
            <a:ext cx="77724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Look at this collection of objects - who do you think owns them and why?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06728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220968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4"/>
          <p:cNvSpPr/>
          <p:nvPr/>
        </p:nvSpPr>
        <p:spPr>
          <a:xfrm>
            <a:off x="411480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"/>
          <p:cNvPicPr/>
          <p:nvPr/>
        </p:nvPicPr>
        <p:blipFill>
          <a:blip r:embed="rId2"/>
          <a:stretch/>
        </p:blipFill>
        <p:spPr>
          <a:xfrm>
            <a:off x="2819520" y="4495680"/>
            <a:ext cx="1600200" cy="1166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6"/>
          <p:cNvSpPr/>
          <p:nvPr/>
        </p:nvSpPr>
        <p:spPr>
          <a:xfrm>
            <a:off x="411480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3"/>
          <a:stretch/>
        </p:blipFill>
        <p:spPr>
          <a:xfrm>
            <a:off x="4648320" y="4495680"/>
            <a:ext cx="1600200" cy="1217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8"/>
          <p:cNvSpPr/>
          <p:nvPr/>
        </p:nvSpPr>
        <p:spPr>
          <a:xfrm>
            <a:off x="410544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7" descr=""/>
          <p:cNvPicPr/>
          <p:nvPr/>
        </p:nvPicPr>
        <p:blipFill>
          <a:blip r:embed="rId4"/>
          <a:stretch/>
        </p:blipFill>
        <p:spPr>
          <a:xfrm>
            <a:off x="6553080" y="4419720"/>
            <a:ext cx="16765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76"/>
          <p:cNvGrpSpPr/>
          <p:nvPr/>
        </p:nvGrpSpPr>
        <p:grpSpPr>
          <a:xfrm>
            <a:off x="228600" y="609480"/>
            <a:ext cx="8762760" cy="914400"/>
            <a:chOff x="228600" y="609480"/>
            <a:chExt cx="8762760" cy="914400"/>
          </a:xfrm>
        </p:grpSpPr>
        <p:grpSp>
          <p:nvGrpSpPr>
            <p:cNvPr id="161" name="Group 74"/>
            <p:cNvGrpSpPr/>
            <p:nvPr/>
          </p:nvGrpSpPr>
          <p:grpSpPr>
            <a:xfrm>
              <a:off x="236160" y="611640"/>
              <a:ext cx="8746200" cy="909000"/>
              <a:chOff x="236160" y="611640"/>
              <a:chExt cx="8746200" cy="909000"/>
            </a:xfrm>
          </p:grpSpPr>
          <p:grpSp>
            <p:nvGrpSpPr>
              <p:cNvPr id="162" name="Group 27"/>
              <p:cNvGrpSpPr/>
              <p:nvPr/>
            </p:nvGrpSpPr>
            <p:grpSpPr>
              <a:xfrm>
                <a:off x="236160" y="611640"/>
                <a:ext cx="728280" cy="366840"/>
                <a:chOff x="236160" y="611640"/>
                <a:chExt cx="728280" cy="366840"/>
              </a:xfrm>
            </p:grpSpPr>
            <p:sp>
              <p:nvSpPr>
                <p:cNvPr id="163" name="Rectangle 2"/>
                <p:cNvSpPr/>
                <p:nvPr/>
              </p:nvSpPr>
              <p:spPr>
                <a:xfrm>
                  <a:off x="348480" y="611640"/>
                  <a:ext cx="5036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a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26"/>
                <p:cNvSpPr/>
                <p:nvPr/>
              </p:nvSpPr>
              <p:spPr>
                <a:xfrm>
                  <a:off x="236160" y="611640"/>
                  <a:ext cx="7282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29"/>
              <p:cNvGrpSpPr/>
              <p:nvPr/>
            </p:nvGrpSpPr>
            <p:grpSpPr>
              <a:xfrm>
                <a:off x="964800" y="611640"/>
                <a:ext cx="728640" cy="366840"/>
                <a:chOff x="964800" y="611640"/>
                <a:chExt cx="728640" cy="366840"/>
              </a:xfrm>
            </p:grpSpPr>
            <p:sp>
              <p:nvSpPr>
                <p:cNvPr id="166" name="Rectangle 3"/>
                <p:cNvSpPr/>
                <p:nvPr/>
              </p:nvSpPr>
              <p:spPr>
                <a:xfrm>
                  <a:off x="1077120" y="611640"/>
                  <a:ext cx="5036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b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28"/>
                <p:cNvSpPr/>
                <p:nvPr/>
              </p:nvSpPr>
              <p:spPr>
                <a:xfrm>
                  <a:off x="964800" y="611640"/>
                  <a:ext cx="72864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31"/>
              <p:cNvGrpSpPr/>
              <p:nvPr/>
            </p:nvGrpSpPr>
            <p:grpSpPr>
              <a:xfrm>
                <a:off x="1694160" y="611640"/>
                <a:ext cx="728280" cy="366840"/>
                <a:chOff x="1694160" y="611640"/>
                <a:chExt cx="728280" cy="366840"/>
              </a:xfrm>
            </p:grpSpPr>
            <p:sp>
              <p:nvSpPr>
                <p:cNvPr id="169" name="Rectangle 4"/>
                <p:cNvSpPr/>
                <p:nvPr/>
              </p:nvSpPr>
              <p:spPr>
                <a:xfrm>
                  <a:off x="1805760" y="611640"/>
                  <a:ext cx="5036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c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30"/>
                <p:cNvSpPr/>
                <p:nvPr/>
              </p:nvSpPr>
              <p:spPr>
                <a:xfrm>
                  <a:off x="1694160" y="611640"/>
                  <a:ext cx="7282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33"/>
              <p:cNvGrpSpPr/>
              <p:nvPr/>
            </p:nvGrpSpPr>
            <p:grpSpPr>
              <a:xfrm>
                <a:off x="2422800" y="611640"/>
                <a:ext cx="728280" cy="366840"/>
                <a:chOff x="2422800" y="611640"/>
                <a:chExt cx="728280" cy="366840"/>
              </a:xfrm>
            </p:grpSpPr>
            <p:sp>
              <p:nvSpPr>
                <p:cNvPr id="172" name="Rectangle 5"/>
                <p:cNvSpPr/>
                <p:nvPr/>
              </p:nvSpPr>
              <p:spPr>
                <a:xfrm>
                  <a:off x="2535120" y="611640"/>
                  <a:ext cx="5036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d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32"/>
                <p:cNvSpPr/>
                <p:nvPr/>
              </p:nvSpPr>
              <p:spPr>
                <a:xfrm>
                  <a:off x="2422800" y="611640"/>
                  <a:ext cx="7282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35"/>
              <p:cNvGrpSpPr/>
              <p:nvPr/>
            </p:nvGrpSpPr>
            <p:grpSpPr>
              <a:xfrm>
                <a:off x="3151440" y="611640"/>
                <a:ext cx="728640" cy="366840"/>
                <a:chOff x="3151440" y="611640"/>
                <a:chExt cx="728640" cy="366840"/>
              </a:xfrm>
            </p:grpSpPr>
            <p:sp>
              <p:nvSpPr>
                <p:cNvPr id="175" name="Rectangle 6"/>
                <p:cNvSpPr/>
                <p:nvPr/>
              </p:nvSpPr>
              <p:spPr>
                <a:xfrm>
                  <a:off x="3263760" y="611640"/>
                  <a:ext cx="5036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e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34"/>
                <p:cNvSpPr/>
                <p:nvPr/>
              </p:nvSpPr>
              <p:spPr>
                <a:xfrm>
                  <a:off x="3151440" y="611640"/>
                  <a:ext cx="72864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37"/>
              <p:cNvGrpSpPr/>
              <p:nvPr/>
            </p:nvGrpSpPr>
            <p:grpSpPr>
              <a:xfrm>
                <a:off x="3880800" y="611640"/>
                <a:ext cx="728280" cy="366840"/>
                <a:chOff x="3880800" y="611640"/>
                <a:chExt cx="728280" cy="366840"/>
              </a:xfrm>
            </p:grpSpPr>
            <p:sp>
              <p:nvSpPr>
                <p:cNvPr id="178" name="Rectangle 7"/>
                <p:cNvSpPr/>
                <p:nvPr/>
              </p:nvSpPr>
              <p:spPr>
                <a:xfrm>
                  <a:off x="3992400" y="611640"/>
                  <a:ext cx="5036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f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36"/>
                <p:cNvSpPr/>
                <p:nvPr/>
              </p:nvSpPr>
              <p:spPr>
                <a:xfrm>
                  <a:off x="3880800" y="611640"/>
                  <a:ext cx="7282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39"/>
              <p:cNvGrpSpPr/>
              <p:nvPr/>
            </p:nvGrpSpPr>
            <p:grpSpPr>
              <a:xfrm>
                <a:off x="4609440" y="611640"/>
                <a:ext cx="728280" cy="366840"/>
                <a:chOff x="4609440" y="611640"/>
                <a:chExt cx="728280" cy="366840"/>
              </a:xfrm>
            </p:grpSpPr>
            <p:sp>
              <p:nvSpPr>
                <p:cNvPr id="181" name="Rectangle 8"/>
                <p:cNvSpPr/>
                <p:nvPr/>
              </p:nvSpPr>
              <p:spPr>
                <a:xfrm>
                  <a:off x="4721040" y="611640"/>
                  <a:ext cx="5043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g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38"/>
                <p:cNvSpPr/>
                <p:nvPr/>
              </p:nvSpPr>
              <p:spPr>
                <a:xfrm>
                  <a:off x="4609440" y="611640"/>
                  <a:ext cx="7282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41"/>
              <p:cNvGrpSpPr/>
              <p:nvPr/>
            </p:nvGrpSpPr>
            <p:grpSpPr>
              <a:xfrm>
                <a:off x="5338080" y="611640"/>
                <a:ext cx="728640" cy="366840"/>
                <a:chOff x="5338080" y="611640"/>
                <a:chExt cx="728640" cy="366840"/>
              </a:xfrm>
            </p:grpSpPr>
            <p:sp>
              <p:nvSpPr>
                <p:cNvPr id="184" name="Rectangle 9"/>
                <p:cNvSpPr/>
                <p:nvPr/>
              </p:nvSpPr>
              <p:spPr>
                <a:xfrm>
                  <a:off x="5450400" y="611640"/>
                  <a:ext cx="5036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h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40"/>
                <p:cNvSpPr/>
                <p:nvPr/>
              </p:nvSpPr>
              <p:spPr>
                <a:xfrm>
                  <a:off x="5338080" y="611640"/>
                  <a:ext cx="72864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43"/>
              <p:cNvGrpSpPr/>
              <p:nvPr/>
            </p:nvGrpSpPr>
            <p:grpSpPr>
              <a:xfrm>
                <a:off x="6067440" y="611640"/>
                <a:ext cx="728280" cy="366840"/>
                <a:chOff x="6067440" y="611640"/>
                <a:chExt cx="728280" cy="366840"/>
              </a:xfrm>
            </p:grpSpPr>
            <p:sp>
              <p:nvSpPr>
                <p:cNvPr id="187" name="Rectangle 10"/>
                <p:cNvSpPr/>
                <p:nvPr/>
              </p:nvSpPr>
              <p:spPr>
                <a:xfrm>
                  <a:off x="6179040" y="611640"/>
                  <a:ext cx="5036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i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42"/>
                <p:cNvSpPr/>
                <p:nvPr/>
              </p:nvSpPr>
              <p:spPr>
                <a:xfrm>
                  <a:off x="6067440" y="611640"/>
                  <a:ext cx="7282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45"/>
              <p:cNvGrpSpPr/>
              <p:nvPr/>
            </p:nvGrpSpPr>
            <p:grpSpPr>
              <a:xfrm>
                <a:off x="6796440" y="611640"/>
                <a:ext cx="728280" cy="366840"/>
                <a:chOff x="6796440" y="611640"/>
                <a:chExt cx="728280" cy="366840"/>
              </a:xfrm>
            </p:grpSpPr>
            <p:sp>
              <p:nvSpPr>
                <p:cNvPr id="190" name="Rectangle 11"/>
                <p:cNvSpPr/>
                <p:nvPr/>
              </p:nvSpPr>
              <p:spPr>
                <a:xfrm>
                  <a:off x="6908040" y="611640"/>
                  <a:ext cx="5043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j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44"/>
                <p:cNvSpPr/>
                <p:nvPr/>
              </p:nvSpPr>
              <p:spPr>
                <a:xfrm>
                  <a:off x="6796440" y="611640"/>
                  <a:ext cx="7282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47"/>
              <p:cNvGrpSpPr/>
              <p:nvPr/>
            </p:nvGrpSpPr>
            <p:grpSpPr>
              <a:xfrm>
                <a:off x="7525080" y="611640"/>
                <a:ext cx="728280" cy="366840"/>
                <a:chOff x="7525080" y="611640"/>
                <a:chExt cx="728280" cy="366840"/>
              </a:xfrm>
            </p:grpSpPr>
            <p:sp>
              <p:nvSpPr>
                <p:cNvPr id="193" name="Rectangle 12"/>
                <p:cNvSpPr/>
                <p:nvPr/>
              </p:nvSpPr>
              <p:spPr>
                <a:xfrm>
                  <a:off x="7637400" y="611640"/>
                  <a:ext cx="5036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k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46"/>
                <p:cNvSpPr/>
                <p:nvPr/>
              </p:nvSpPr>
              <p:spPr>
                <a:xfrm>
                  <a:off x="7525080" y="611640"/>
                  <a:ext cx="7282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49"/>
              <p:cNvGrpSpPr/>
              <p:nvPr/>
            </p:nvGrpSpPr>
            <p:grpSpPr>
              <a:xfrm>
                <a:off x="8253720" y="611640"/>
                <a:ext cx="728640" cy="366840"/>
                <a:chOff x="8253720" y="611640"/>
                <a:chExt cx="728640" cy="366840"/>
              </a:xfrm>
            </p:grpSpPr>
            <p:sp>
              <p:nvSpPr>
                <p:cNvPr id="196" name="Rectangle 13"/>
                <p:cNvSpPr/>
                <p:nvPr/>
              </p:nvSpPr>
              <p:spPr>
                <a:xfrm>
                  <a:off x="8366040" y="611640"/>
                  <a:ext cx="5036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l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48"/>
                <p:cNvSpPr/>
                <p:nvPr/>
              </p:nvSpPr>
              <p:spPr>
                <a:xfrm>
                  <a:off x="8253720" y="611640"/>
                  <a:ext cx="72864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51"/>
              <p:cNvGrpSpPr/>
              <p:nvPr/>
            </p:nvGrpSpPr>
            <p:grpSpPr>
              <a:xfrm>
                <a:off x="236160" y="978480"/>
                <a:ext cx="728280" cy="542160"/>
                <a:chOff x="236160" y="978480"/>
                <a:chExt cx="728280" cy="542160"/>
              </a:xfrm>
            </p:grpSpPr>
            <p:sp>
              <p:nvSpPr>
                <p:cNvPr id="199" name="Rectangle 14"/>
                <p:cNvSpPr/>
                <p:nvPr/>
              </p:nvSpPr>
              <p:spPr>
                <a:xfrm>
                  <a:off x="348480" y="978480"/>
                  <a:ext cx="50364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26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Rectangle 50"/>
                <p:cNvSpPr/>
                <p:nvPr/>
              </p:nvSpPr>
              <p:spPr>
                <a:xfrm>
                  <a:off x="236160" y="978480"/>
                  <a:ext cx="72828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53"/>
              <p:cNvGrpSpPr/>
              <p:nvPr/>
            </p:nvGrpSpPr>
            <p:grpSpPr>
              <a:xfrm>
                <a:off x="964800" y="978480"/>
                <a:ext cx="728640" cy="542160"/>
                <a:chOff x="964800" y="978480"/>
                <a:chExt cx="728640" cy="542160"/>
              </a:xfrm>
            </p:grpSpPr>
            <p:sp>
              <p:nvSpPr>
                <p:cNvPr id="202" name="Rectangle 15"/>
                <p:cNvSpPr/>
                <p:nvPr/>
              </p:nvSpPr>
              <p:spPr>
                <a:xfrm>
                  <a:off x="1077120" y="978480"/>
                  <a:ext cx="50364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25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52"/>
                <p:cNvSpPr/>
                <p:nvPr/>
              </p:nvSpPr>
              <p:spPr>
                <a:xfrm>
                  <a:off x="964800" y="978480"/>
                  <a:ext cx="72864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55"/>
              <p:cNvGrpSpPr/>
              <p:nvPr/>
            </p:nvGrpSpPr>
            <p:grpSpPr>
              <a:xfrm>
                <a:off x="1694160" y="978480"/>
                <a:ext cx="728280" cy="542160"/>
                <a:chOff x="1694160" y="978480"/>
                <a:chExt cx="728280" cy="542160"/>
              </a:xfrm>
            </p:grpSpPr>
            <p:sp>
              <p:nvSpPr>
                <p:cNvPr id="205" name="Rectangle 16"/>
                <p:cNvSpPr/>
                <p:nvPr/>
              </p:nvSpPr>
              <p:spPr>
                <a:xfrm>
                  <a:off x="1805760" y="978480"/>
                  <a:ext cx="50364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24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Rectangle 54"/>
                <p:cNvSpPr/>
                <p:nvPr/>
              </p:nvSpPr>
              <p:spPr>
                <a:xfrm>
                  <a:off x="1694160" y="978480"/>
                  <a:ext cx="72828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Group 57"/>
              <p:cNvGrpSpPr/>
              <p:nvPr/>
            </p:nvGrpSpPr>
            <p:grpSpPr>
              <a:xfrm>
                <a:off x="2422800" y="978480"/>
                <a:ext cx="728280" cy="542160"/>
                <a:chOff x="2422800" y="978480"/>
                <a:chExt cx="728280" cy="542160"/>
              </a:xfrm>
            </p:grpSpPr>
            <p:sp>
              <p:nvSpPr>
                <p:cNvPr id="208" name="Rectangle 17"/>
                <p:cNvSpPr/>
                <p:nvPr/>
              </p:nvSpPr>
              <p:spPr>
                <a:xfrm>
                  <a:off x="2535120" y="978480"/>
                  <a:ext cx="50364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23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Rectangle 56"/>
                <p:cNvSpPr/>
                <p:nvPr/>
              </p:nvSpPr>
              <p:spPr>
                <a:xfrm>
                  <a:off x="2422800" y="978480"/>
                  <a:ext cx="72828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Group 59"/>
              <p:cNvGrpSpPr/>
              <p:nvPr/>
            </p:nvGrpSpPr>
            <p:grpSpPr>
              <a:xfrm>
                <a:off x="3151440" y="978480"/>
                <a:ext cx="728640" cy="542160"/>
                <a:chOff x="3151440" y="978480"/>
                <a:chExt cx="728640" cy="542160"/>
              </a:xfrm>
            </p:grpSpPr>
            <p:sp>
              <p:nvSpPr>
                <p:cNvPr id="211" name="Rectangle 18"/>
                <p:cNvSpPr/>
                <p:nvPr/>
              </p:nvSpPr>
              <p:spPr>
                <a:xfrm>
                  <a:off x="3263760" y="978480"/>
                  <a:ext cx="50364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22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Rectangle 58"/>
                <p:cNvSpPr/>
                <p:nvPr/>
              </p:nvSpPr>
              <p:spPr>
                <a:xfrm>
                  <a:off x="3151440" y="978480"/>
                  <a:ext cx="72864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61"/>
              <p:cNvGrpSpPr/>
              <p:nvPr/>
            </p:nvGrpSpPr>
            <p:grpSpPr>
              <a:xfrm>
                <a:off x="3880800" y="978480"/>
                <a:ext cx="728280" cy="542160"/>
                <a:chOff x="3880800" y="978480"/>
                <a:chExt cx="728280" cy="542160"/>
              </a:xfrm>
            </p:grpSpPr>
            <p:sp>
              <p:nvSpPr>
                <p:cNvPr id="214" name="Rectangle 19"/>
                <p:cNvSpPr/>
                <p:nvPr/>
              </p:nvSpPr>
              <p:spPr>
                <a:xfrm>
                  <a:off x="3992400" y="978480"/>
                  <a:ext cx="50364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21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60"/>
                <p:cNvSpPr/>
                <p:nvPr/>
              </p:nvSpPr>
              <p:spPr>
                <a:xfrm>
                  <a:off x="3880800" y="978480"/>
                  <a:ext cx="72828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63"/>
              <p:cNvGrpSpPr/>
              <p:nvPr/>
            </p:nvGrpSpPr>
            <p:grpSpPr>
              <a:xfrm>
                <a:off x="4609440" y="978480"/>
                <a:ext cx="728280" cy="542160"/>
                <a:chOff x="4609440" y="978480"/>
                <a:chExt cx="728280" cy="542160"/>
              </a:xfrm>
            </p:grpSpPr>
            <p:sp>
              <p:nvSpPr>
                <p:cNvPr id="217" name="Rectangle 20"/>
                <p:cNvSpPr/>
                <p:nvPr/>
              </p:nvSpPr>
              <p:spPr>
                <a:xfrm>
                  <a:off x="4721040" y="978480"/>
                  <a:ext cx="50436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20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Rectangle 62"/>
                <p:cNvSpPr/>
                <p:nvPr/>
              </p:nvSpPr>
              <p:spPr>
                <a:xfrm>
                  <a:off x="4609440" y="978480"/>
                  <a:ext cx="72828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65"/>
              <p:cNvGrpSpPr/>
              <p:nvPr/>
            </p:nvGrpSpPr>
            <p:grpSpPr>
              <a:xfrm>
                <a:off x="5338080" y="978480"/>
                <a:ext cx="728640" cy="542160"/>
                <a:chOff x="5338080" y="978480"/>
                <a:chExt cx="728640" cy="542160"/>
              </a:xfrm>
            </p:grpSpPr>
            <p:sp>
              <p:nvSpPr>
                <p:cNvPr id="220" name="Rectangle 21"/>
                <p:cNvSpPr/>
                <p:nvPr/>
              </p:nvSpPr>
              <p:spPr>
                <a:xfrm>
                  <a:off x="5450400" y="978480"/>
                  <a:ext cx="50364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19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Rectangle 64"/>
                <p:cNvSpPr/>
                <p:nvPr/>
              </p:nvSpPr>
              <p:spPr>
                <a:xfrm>
                  <a:off x="5338080" y="978480"/>
                  <a:ext cx="72864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67"/>
              <p:cNvGrpSpPr/>
              <p:nvPr/>
            </p:nvGrpSpPr>
            <p:grpSpPr>
              <a:xfrm>
                <a:off x="6067440" y="978480"/>
                <a:ext cx="728280" cy="542160"/>
                <a:chOff x="6067440" y="978480"/>
                <a:chExt cx="728280" cy="542160"/>
              </a:xfrm>
            </p:grpSpPr>
            <p:sp>
              <p:nvSpPr>
                <p:cNvPr id="223" name="Rectangle 22"/>
                <p:cNvSpPr/>
                <p:nvPr/>
              </p:nvSpPr>
              <p:spPr>
                <a:xfrm>
                  <a:off x="6179040" y="978480"/>
                  <a:ext cx="50364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18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Rectangle 66"/>
                <p:cNvSpPr/>
                <p:nvPr/>
              </p:nvSpPr>
              <p:spPr>
                <a:xfrm>
                  <a:off x="6067440" y="978480"/>
                  <a:ext cx="72828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69"/>
              <p:cNvGrpSpPr/>
              <p:nvPr/>
            </p:nvGrpSpPr>
            <p:grpSpPr>
              <a:xfrm>
                <a:off x="6796440" y="978480"/>
                <a:ext cx="728280" cy="542160"/>
                <a:chOff x="6796440" y="978480"/>
                <a:chExt cx="728280" cy="542160"/>
              </a:xfrm>
            </p:grpSpPr>
            <p:sp>
              <p:nvSpPr>
                <p:cNvPr id="226" name="Rectangle 23"/>
                <p:cNvSpPr/>
                <p:nvPr/>
              </p:nvSpPr>
              <p:spPr>
                <a:xfrm>
                  <a:off x="6908040" y="978480"/>
                  <a:ext cx="50436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17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68"/>
                <p:cNvSpPr/>
                <p:nvPr/>
              </p:nvSpPr>
              <p:spPr>
                <a:xfrm>
                  <a:off x="6796440" y="978480"/>
                  <a:ext cx="72828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71"/>
              <p:cNvGrpSpPr/>
              <p:nvPr/>
            </p:nvGrpSpPr>
            <p:grpSpPr>
              <a:xfrm>
                <a:off x="7525080" y="978480"/>
                <a:ext cx="728280" cy="542160"/>
                <a:chOff x="7525080" y="978480"/>
                <a:chExt cx="728280" cy="542160"/>
              </a:xfrm>
            </p:grpSpPr>
            <p:sp>
              <p:nvSpPr>
                <p:cNvPr id="229" name="Rectangle 24"/>
                <p:cNvSpPr/>
                <p:nvPr/>
              </p:nvSpPr>
              <p:spPr>
                <a:xfrm>
                  <a:off x="7637400" y="978480"/>
                  <a:ext cx="50364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16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Rectangle 70"/>
                <p:cNvSpPr/>
                <p:nvPr/>
              </p:nvSpPr>
              <p:spPr>
                <a:xfrm>
                  <a:off x="7525080" y="978480"/>
                  <a:ext cx="72828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Group 73"/>
              <p:cNvGrpSpPr/>
              <p:nvPr/>
            </p:nvGrpSpPr>
            <p:grpSpPr>
              <a:xfrm>
                <a:off x="8253720" y="978480"/>
                <a:ext cx="728640" cy="542160"/>
                <a:chOff x="8253720" y="978480"/>
                <a:chExt cx="728640" cy="542160"/>
              </a:xfrm>
            </p:grpSpPr>
            <p:sp>
              <p:nvSpPr>
                <p:cNvPr id="232" name="Rectangle 25"/>
                <p:cNvSpPr/>
                <p:nvPr/>
              </p:nvSpPr>
              <p:spPr>
                <a:xfrm>
                  <a:off x="8366040" y="978480"/>
                  <a:ext cx="50364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15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Rectangle 72"/>
                <p:cNvSpPr/>
                <p:nvPr/>
              </p:nvSpPr>
              <p:spPr>
                <a:xfrm>
                  <a:off x="8253720" y="978480"/>
                  <a:ext cx="72864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Rectangle 75"/>
            <p:cNvSpPr/>
            <p:nvPr/>
          </p:nvSpPr>
          <p:spPr>
            <a:xfrm>
              <a:off x="228600" y="609480"/>
              <a:ext cx="8762760" cy="914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77"/>
          <p:cNvSpPr/>
          <p:nvPr/>
        </p:nvSpPr>
        <p:spPr>
          <a:xfrm>
            <a:off x="3240" y="2025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 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46"/>
          <p:cNvGrpSpPr/>
          <p:nvPr/>
        </p:nvGrpSpPr>
        <p:grpSpPr>
          <a:xfrm>
            <a:off x="228600" y="1676520"/>
            <a:ext cx="8686440" cy="1066680"/>
            <a:chOff x="228600" y="1676520"/>
            <a:chExt cx="8686440" cy="1066680"/>
          </a:xfrm>
        </p:grpSpPr>
        <p:grpSp>
          <p:nvGrpSpPr>
            <p:cNvPr id="237" name="Group 144"/>
            <p:cNvGrpSpPr/>
            <p:nvPr/>
          </p:nvGrpSpPr>
          <p:grpSpPr>
            <a:xfrm>
              <a:off x="236520" y="1679040"/>
              <a:ext cx="8669160" cy="1060560"/>
              <a:chOff x="236520" y="1679040"/>
              <a:chExt cx="8669160" cy="1060560"/>
            </a:xfrm>
          </p:grpSpPr>
          <p:grpSp>
            <p:nvGrpSpPr>
              <p:cNvPr id="238" name="Group 101"/>
              <p:cNvGrpSpPr/>
              <p:nvPr/>
            </p:nvGrpSpPr>
            <p:grpSpPr>
              <a:xfrm>
                <a:off x="236520" y="1679040"/>
                <a:ext cx="762120" cy="428040"/>
                <a:chOff x="236520" y="1679040"/>
                <a:chExt cx="762120" cy="428040"/>
              </a:xfrm>
            </p:grpSpPr>
            <p:sp>
              <p:nvSpPr>
                <p:cNvPr id="239" name="Rectangle 78"/>
                <p:cNvSpPr/>
                <p:nvPr/>
              </p:nvSpPr>
              <p:spPr>
                <a:xfrm>
                  <a:off x="353160" y="1679040"/>
                  <a:ext cx="52884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m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ectangle 100"/>
                <p:cNvSpPr/>
                <p:nvPr/>
              </p:nvSpPr>
              <p:spPr>
                <a:xfrm>
                  <a:off x="236520" y="1679040"/>
                  <a:ext cx="76212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Group 103"/>
              <p:cNvGrpSpPr/>
              <p:nvPr/>
            </p:nvGrpSpPr>
            <p:grpSpPr>
              <a:xfrm>
                <a:off x="999000" y="1679040"/>
                <a:ext cx="821880" cy="428040"/>
                <a:chOff x="999000" y="1679040"/>
                <a:chExt cx="821880" cy="428040"/>
              </a:xfrm>
            </p:grpSpPr>
            <p:sp>
              <p:nvSpPr>
                <p:cNvPr id="242" name="Rectangle 79"/>
                <p:cNvSpPr/>
                <p:nvPr/>
              </p:nvSpPr>
              <p:spPr>
                <a:xfrm>
                  <a:off x="1115640" y="1679040"/>
                  <a:ext cx="58860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n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102"/>
                <p:cNvSpPr/>
                <p:nvPr/>
              </p:nvSpPr>
              <p:spPr>
                <a:xfrm>
                  <a:off x="999000" y="1679040"/>
                  <a:ext cx="82188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105"/>
              <p:cNvGrpSpPr/>
              <p:nvPr/>
            </p:nvGrpSpPr>
            <p:grpSpPr>
              <a:xfrm>
                <a:off x="1821240" y="1679040"/>
                <a:ext cx="821880" cy="428040"/>
                <a:chOff x="1821240" y="1679040"/>
                <a:chExt cx="821880" cy="428040"/>
              </a:xfrm>
            </p:grpSpPr>
            <p:sp>
              <p:nvSpPr>
                <p:cNvPr id="245" name="Rectangle 80"/>
                <p:cNvSpPr/>
                <p:nvPr/>
              </p:nvSpPr>
              <p:spPr>
                <a:xfrm>
                  <a:off x="1937880" y="1679040"/>
                  <a:ext cx="58860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o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104"/>
                <p:cNvSpPr/>
                <p:nvPr/>
              </p:nvSpPr>
              <p:spPr>
                <a:xfrm>
                  <a:off x="1821240" y="1679040"/>
                  <a:ext cx="82188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107"/>
              <p:cNvGrpSpPr/>
              <p:nvPr/>
            </p:nvGrpSpPr>
            <p:grpSpPr>
              <a:xfrm>
                <a:off x="2643840" y="1679040"/>
                <a:ext cx="822600" cy="428040"/>
                <a:chOff x="2643840" y="1679040"/>
                <a:chExt cx="822600" cy="428040"/>
              </a:xfrm>
            </p:grpSpPr>
            <p:sp>
              <p:nvSpPr>
                <p:cNvPr id="248" name="Rectangle 81"/>
                <p:cNvSpPr/>
                <p:nvPr/>
              </p:nvSpPr>
              <p:spPr>
                <a:xfrm>
                  <a:off x="2760480" y="1679040"/>
                  <a:ext cx="58860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p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106"/>
                <p:cNvSpPr/>
                <p:nvPr/>
              </p:nvSpPr>
              <p:spPr>
                <a:xfrm>
                  <a:off x="2643840" y="1679040"/>
                  <a:ext cx="82260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Group 109"/>
              <p:cNvGrpSpPr/>
              <p:nvPr/>
            </p:nvGrpSpPr>
            <p:grpSpPr>
              <a:xfrm>
                <a:off x="3466800" y="1679040"/>
                <a:ext cx="821880" cy="428040"/>
                <a:chOff x="3466800" y="1679040"/>
                <a:chExt cx="821880" cy="428040"/>
              </a:xfrm>
            </p:grpSpPr>
            <p:sp>
              <p:nvSpPr>
                <p:cNvPr id="251" name="Rectangle 82"/>
                <p:cNvSpPr/>
                <p:nvPr/>
              </p:nvSpPr>
              <p:spPr>
                <a:xfrm>
                  <a:off x="3583080" y="1679040"/>
                  <a:ext cx="58860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q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08"/>
                <p:cNvSpPr/>
                <p:nvPr/>
              </p:nvSpPr>
              <p:spPr>
                <a:xfrm>
                  <a:off x="3466800" y="1679040"/>
                  <a:ext cx="82188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Group 111"/>
              <p:cNvGrpSpPr/>
              <p:nvPr/>
            </p:nvGrpSpPr>
            <p:grpSpPr>
              <a:xfrm>
                <a:off x="4289040" y="1679040"/>
                <a:ext cx="756720" cy="428040"/>
                <a:chOff x="4289040" y="1679040"/>
                <a:chExt cx="756720" cy="428040"/>
              </a:xfrm>
            </p:grpSpPr>
            <p:sp>
              <p:nvSpPr>
                <p:cNvPr id="254" name="Rectangle 83"/>
                <p:cNvSpPr/>
                <p:nvPr/>
              </p:nvSpPr>
              <p:spPr>
                <a:xfrm>
                  <a:off x="4405320" y="1679040"/>
                  <a:ext cx="52344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r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110"/>
                <p:cNvSpPr/>
                <p:nvPr/>
              </p:nvSpPr>
              <p:spPr>
                <a:xfrm>
                  <a:off x="4289040" y="1679040"/>
                  <a:ext cx="75672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113"/>
              <p:cNvGrpSpPr/>
              <p:nvPr/>
            </p:nvGrpSpPr>
            <p:grpSpPr>
              <a:xfrm>
                <a:off x="5046120" y="1679040"/>
                <a:ext cx="756720" cy="428040"/>
                <a:chOff x="5046120" y="1679040"/>
                <a:chExt cx="756720" cy="428040"/>
              </a:xfrm>
            </p:grpSpPr>
            <p:sp>
              <p:nvSpPr>
                <p:cNvPr id="257" name="Rectangle 84"/>
                <p:cNvSpPr/>
                <p:nvPr/>
              </p:nvSpPr>
              <p:spPr>
                <a:xfrm>
                  <a:off x="5162760" y="1679040"/>
                  <a:ext cx="52344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s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12"/>
                <p:cNvSpPr/>
                <p:nvPr/>
              </p:nvSpPr>
              <p:spPr>
                <a:xfrm>
                  <a:off x="5046120" y="1679040"/>
                  <a:ext cx="75672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115"/>
              <p:cNvGrpSpPr/>
              <p:nvPr/>
            </p:nvGrpSpPr>
            <p:grpSpPr>
              <a:xfrm>
                <a:off x="5803200" y="1679040"/>
                <a:ext cx="757080" cy="428040"/>
                <a:chOff x="5803200" y="1679040"/>
                <a:chExt cx="757080" cy="428040"/>
              </a:xfrm>
            </p:grpSpPr>
            <p:sp>
              <p:nvSpPr>
                <p:cNvPr id="260" name="Rectangle 85"/>
                <p:cNvSpPr/>
                <p:nvPr/>
              </p:nvSpPr>
              <p:spPr>
                <a:xfrm>
                  <a:off x="5919840" y="1679040"/>
                  <a:ext cx="52344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t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14"/>
                <p:cNvSpPr/>
                <p:nvPr/>
              </p:nvSpPr>
              <p:spPr>
                <a:xfrm>
                  <a:off x="5803200" y="1679040"/>
                  <a:ext cx="75708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117"/>
              <p:cNvGrpSpPr/>
              <p:nvPr/>
            </p:nvGrpSpPr>
            <p:grpSpPr>
              <a:xfrm>
                <a:off x="6561000" y="1679040"/>
                <a:ext cx="764640" cy="428040"/>
                <a:chOff x="6561000" y="1679040"/>
                <a:chExt cx="764640" cy="428040"/>
              </a:xfrm>
            </p:grpSpPr>
            <p:sp>
              <p:nvSpPr>
                <p:cNvPr id="263" name="Rectangle 86"/>
                <p:cNvSpPr/>
                <p:nvPr/>
              </p:nvSpPr>
              <p:spPr>
                <a:xfrm>
                  <a:off x="6677280" y="1679040"/>
                  <a:ext cx="53208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u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>
                  <a:off x="6561000" y="1679040"/>
                  <a:ext cx="76464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Group 119"/>
              <p:cNvGrpSpPr/>
              <p:nvPr/>
            </p:nvGrpSpPr>
            <p:grpSpPr>
              <a:xfrm>
                <a:off x="7326360" y="1679040"/>
                <a:ext cx="778680" cy="428040"/>
                <a:chOff x="7326360" y="1679040"/>
                <a:chExt cx="778680" cy="428040"/>
              </a:xfrm>
            </p:grpSpPr>
            <p:sp>
              <p:nvSpPr>
                <p:cNvPr id="266" name="Rectangle 87"/>
                <p:cNvSpPr/>
                <p:nvPr/>
              </p:nvSpPr>
              <p:spPr>
                <a:xfrm>
                  <a:off x="7443000" y="1679040"/>
                  <a:ext cx="54468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v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Rectangle 118"/>
                <p:cNvSpPr/>
                <p:nvPr/>
              </p:nvSpPr>
              <p:spPr>
                <a:xfrm>
                  <a:off x="7326360" y="1679040"/>
                  <a:ext cx="77868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Group 121"/>
              <p:cNvGrpSpPr/>
              <p:nvPr/>
            </p:nvGrpSpPr>
            <p:grpSpPr>
              <a:xfrm>
                <a:off x="8105400" y="1679040"/>
                <a:ext cx="800280" cy="428040"/>
                <a:chOff x="8105400" y="1679040"/>
                <a:chExt cx="800280" cy="428040"/>
              </a:xfrm>
            </p:grpSpPr>
            <p:sp>
              <p:nvSpPr>
                <p:cNvPr id="269" name="Rectangle 88"/>
                <p:cNvSpPr/>
                <p:nvPr/>
              </p:nvSpPr>
              <p:spPr>
                <a:xfrm>
                  <a:off x="8221320" y="1679040"/>
                  <a:ext cx="56700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w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120"/>
                <p:cNvSpPr/>
                <p:nvPr/>
              </p:nvSpPr>
              <p:spPr>
                <a:xfrm>
                  <a:off x="8105400" y="1679040"/>
                  <a:ext cx="80028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123"/>
              <p:cNvGrpSpPr/>
              <p:nvPr/>
            </p:nvGrpSpPr>
            <p:grpSpPr>
              <a:xfrm>
                <a:off x="236520" y="2107080"/>
                <a:ext cx="762120" cy="632520"/>
                <a:chOff x="236520" y="2107080"/>
                <a:chExt cx="762120" cy="632520"/>
              </a:xfrm>
            </p:grpSpPr>
            <p:sp>
              <p:nvSpPr>
                <p:cNvPr id="272" name="Rectangle 89"/>
                <p:cNvSpPr/>
                <p:nvPr/>
              </p:nvSpPr>
              <p:spPr>
                <a:xfrm>
                  <a:off x="353160" y="2107080"/>
                  <a:ext cx="52884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14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122"/>
                <p:cNvSpPr/>
                <p:nvPr/>
              </p:nvSpPr>
              <p:spPr>
                <a:xfrm>
                  <a:off x="236520" y="2107080"/>
                  <a:ext cx="76212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125"/>
              <p:cNvGrpSpPr/>
              <p:nvPr/>
            </p:nvGrpSpPr>
            <p:grpSpPr>
              <a:xfrm>
                <a:off x="999000" y="2107080"/>
                <a:ext cx="821880" cy="632520"/>
                <a:chOff x="999000" y="2107080"/>
                <a:chExt cx="821880" cy="632520"/>
              </a:xfrm>
            </p:grpSpPr>
            <p:sp>
              <p:nvSpPr>
                <p:cNvPr id="275" name="Rectangle 90"/>
                <p:cNvSpPr/>
                <p:nvPr/>
              </p:nvSpPr>
              <p:spPr>
                <a:xfrm>
                  <a:off x="1115640" y="2107080"/>
                  <a:ext cx="5886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13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124"/>
                <p:cNvSpPr/>
                <p:nvPr/>
              </p:nvSpPr>
              <p:spPr>
                <a:xfrm>
                  <a:off x="999000" y="2107080"/>
                  <a:ext cx="82188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27"/>
              <p:cNvGrpSpPr/>
              <p:nvPr/>
            </p:nvGrpSpPr>
            <p:grpSpPr>
              <a:xfrm>
                <a:off x="1821240" y="2107080"/>
                <a:ext cx="821880" cy="632520"/>
                <a:chOff x="1821240" y="2107080"/>
                <a:chExt cx="821880" cy="632520"/>
              </a:xfrm>
            </p:grpSpPr>
            <p:sp>
              <p:nvSpPr>
                <p:cNvPr id="278" name="Rectangle 91"/>
                <p:cNvSpPr/>
                <p:nvPr/>
              </p:nvSpPr>
              <p:spPr>
                <a:xfrm>
                  <a:off x="1937880" y="2107080"/>
                  <a:ext cx="5886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12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Rectangle 126"/>
                <p:cNvSpPr/>
                <p:nvPr/>
              </p:nvSpPr>
              <p:spPr>
                <a:xfrm>
                  <a:off x="1821240" y="2107080"/>
                  <a:ext cx="82188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Group 129"/>
              <p:cNvGrpSpPr/>
              <p:nvPr/>
            </p:nvGrpSpPr>
            <p:grpSpPr>
              <a:xfrm>
                <a:off x="2643840" y="2107080"/>
                <a:ext cx="822600" cy="632520"/>
                <a:chOff x="2643840" y="2107080"/>
                <a:chExt cx="822600" cy="632520"/>
              </a:xfrm>
            </p:grpSpPr>
            <p:sp>
              <p:nvSpPr>
                <p:cNvPr id="281" name="Rectangle 92"/>
                <p:cNvSpPr/>
                <p:nvPr/>
              </p:nvSpPr>
              <p:spPr>
                <a:xfrm>
                  <a:off x="2760480" y="2107080"/>
                  <a:ext cx="5886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11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128"/>
                <p:cNvSpPr/>
                <p:nvPr/>
              </p:nvSpPr>
              <p:spPr>
                <a:xfrm>
                  <a:off x="2643840" y="2107080"/>
                  <a:ext cx="82260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Group 131"/>
              <p:cNvGrpSpPr/>
              <p:nvPr/>
            </p:nvGrpSpPr>
            <p:grpSpPr>
              <a:xfrm>
                <a:off x="3466800" y="2107080"/>
                <a:ext cx="821880" cy="632520"/>
                <a:chOff x="3466800" y="2107080"/>
                <a:chExt cx="821880" cy="632520"/>
              </a:xfrm>
            </p:grpSpPr>
            <p:sp>
              <p:nvSpPr>
                <p:cNvPr id="284" name="Rectangle 93"/>
                <p:cNvSpPr/>
                <p:nvPr/>
              </p:nvSpPr>
              <p:spPr>
                <a:xfrm>
                  <a:off x="3583080" y="2107080"/>
                  <a:ext cx="5886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10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Rectangle 130"/>
                <p:cNvSpPr/>
                <p:nvPr/>
              </p:nvSpPr>
              <p:spPr>
                <a:xfrm>
                  <a:off x="3466800" y="2107080"/>
                  <a:ext cx="82188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33"/>
              <p:cNvGrpSpPr/>
              <p:nvPr/>
            </p:nvGrpSpPr>
            <p:grpSpPr>
              <a:xfrm>
                <a:off x="4289040" y="2107080"/>
                <a:ext cx="756720" cy="632520"/>
                <a:chOff x="4289040" y="2107080"/>
                <a:chExt cx="756720" cy="632520"/>
              </a:xfrm>
            </p:grpSpPr>
            <p:sp>
              <p:nvSpPr>
                <p:cNvPr id="287" name="Rectangle 94"/>
                <p:cNvSpPr/>
                <p:nvPr/>
              </p:nvSpPr>
              <p:spPr>
                <a:xfrm>
                  <a:off x="4405320" y="2107080"/>
                  <a:ext cx="52344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9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132"/>
                <p:cNvSpPr/>
                <p:nvPr/>
              </p:nvSpPr>
              <p:spPr>
                <a:xfrm>
                  <a:off x="4289040" y="2107080"/>
                  <a:ext cx="75672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35"/>
              <p:cNvGrpSpPr/>
              <p:nvPr/>
            </p:nvGrpSpPr>
            <p:grpSpPr>
              <a:xfrm>
                <a:off x="5046120" y="2107080"/>
                <a:ext cx="756720" cy="632520"/>
                <a:chOff x="5046120" y="2107080"/>
                <a:chExt cx="756720" cy="632520"/>
              </a:xfrm>
            </p:grpSpPr>
            <p:sp>
              <p:nvSpPr>
                <p:cNvPr id="290" name="Rectangle 95"/>
                <p:cNvSpPr/>
                <p:nvPr/>
              </p:nvSpPr>
              <p:spPr>
                <a:xfrm>
                  <a:off x="5162760" y="2107080"/>
                  <a:ext cx="52344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8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134"/>
                <p:cNvSpPr/>
                <p:nvPr/>
              </p:nvSpPr>
              <p:spPr>
                <a:xfrm>
                  <a:off x="5046120" y="2107080"/>
                  <a:ext cx="75672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137"/>
              <p:cNvGrpSpPr/>
              <p:nvPr/>
            </p:nvGrpSpPr>
            <p:grpSpPr>
              <a:xfrm>
                <a:off x="5803200" y="2107080"/>
                <a:ext cx="757080" cy="632520"/>
                <a:chOff x="5803200" y="2107080"/>
                <a:chExt cx="757080" cy="632520"/>
              </a:xfrm>
            </p:grpSpPr>
            <p:sp>
              <p:nvSpPr>
                <p:cNvPr id="293" name="Rectangle 96"/>
                <p:cNvSpPr/>
                <p:nvPr/>
              </p:nvSpPr>
              <p:spPr>
                <a:xfrm>
                  <a:off x="5919840" y="2107080"/>
                  <a:ext cx="52344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7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136"/>
                <p:cNvSpPr/>
                <p:nvPr/>
              </p:nvSpPr>
              <p:spPr>
                <a:xfrm>
                  <a:off x="5803200" y="2107080"/>
                  <a:ext cx="75708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139"/>
              <p:cNvGrpSpPr/>
              <p:nvPr/>
            </p:nvGrpSpPr>
            <p:grpSpPr>
              <a:xfrm>
                <a:off x="6561000" y="2107080"/>
                <a:ext cx="764640" cy="632520"/>
                <a:chOff x="6561000" y="2107080"/>
                <a:chExt cx="764640" cy="632520"/>
              </a:xfrm>
            </p:grpSpPr>
            <p:sp>
              <p:nvSpPr>
                <p:cNvPr id="296" name="Rectangle 97"/>
                <p:cNvSpPr/>
                <p:nvPr/>
              </p:nvSpPr>
              <p:spPr>
                <a:xfrm>
                  <a:off x="6677280" y="2107080"/>
                  <a:ext cx="53208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6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138"/>
                <p:cNvSpPr/>
                <p:nvPr/>
              </p:nvSpPr>
              <p:spPr>
                <a:xfrm>
                  <a:off x="6561000" y="2107080"/>
                  <a:ext cx="76464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141"/>
              <p:cNvGrpSpPr/>
              <p:nvPr/>
            </p:nvGrpSpPr>
            <p:grpSpPr>
              <a:xfrm>
                <a:off x="7326360" y="2107080"/>
                <a:ext cx="778680" cy="632520"/>
                <a:chOff x="7326360" y="2107080"/>
                <a:chExt cx="778680" cy="632520"/>
              </a:xfrm>
            </p:grpSpPr>
            <p:sp>
              <p:nvSpPr>
                <p:cNvPr id="299" name="Rectangle 98"/>
                <p:cNvSpPr/>
                <p:nvPr/>
              </p:nvSpPr>
              <p:spPr>
                <a:xfrm>
                  <a:off x="7443000" y="2107080"/>
                  <a:ext cx="54468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5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140"/>
                <p:cNvSpPr/>
                <p:nvPr/>
              </p:nvSpPr>
              <p:spPr>
                <a:xfrm>
                  <a:off x="7326360" y="2107080"/>
                  <a:ext cx="77868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Group 143"/>
              <p:cNvGrpSpPr/>
              <p:nvPr/>
            </p:nvGrpSpPr>
            <p:grpSpPr>
              <a:xfrm>
                <a:off x="8105400" y="2107080"/>
                <a:ext cx="800280" cy="632520"/>
                <a:chOff x="8105400" y="2107080"/>
                <a:chExt cx="800280" cy="632520"/>
              </a:xfrm>
            </p:grpSpPr>
            <p:sp>
              <p:nvSpPr>
                <p:cNvPr id="302" name="Rectangle 99"/>
                <p:cNvSpPr/>
                <p:nvPr/>
              </p:nvSpPr>
              <p:spPr>
                <a:xfrm>
                  <a:off x="8221320" y="2107080"/>
                  <a:ext cx="5670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4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142"/>
                <p:cNvSpPr/>
                <p:nvPr/>
              </p:nvSpPr>
              <p:spPr>
                <a:xfrm>
                  <a:off x="8105400" y="2107080"/>
                  <a:ext cx="80028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Rectangle 145"/>
            <p:cNvSpPr/>
            <p:nvPr/>
          </p:nvSpPr>
          <p:spPr>
            <a:xfrm>
              <a:off x="228600" y="1676520"/>
              <a:ext cx="8686440" cy="1066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Rectangle 147"/>
          <p:cNvSpPr/>
          <p:nvPr/>
        </p:nvSpPr>
        <p:spPr>
          <a:xfrm>
            <a:off x="3124080" y="2971800"/>
            <a:ext cx="48006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Use this code to work out the message below…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31"/>
          <p:cNvGrpSpPr/>
          <p:nvPr/>
        </p:nvGrpSpPr>
        <p:grpSpPr>
          <a:xfrm>
            <a:off x="228600" y="2971800"/>
            <a:ext cx="2043000" cy="990720"/>
            <a:chOff x="228600" y="2971800"/>
            <a:chExt cx="2043000" cy="990720"/>
          </a:xfrm>
        </p:grpSpPr>
        <p:grpSp>
          <p:nvGrpSpPr>
            <p:cNvPr id="307" name="Group 229"/>
            <p:cNvGrpSpPr/>
            <p:nvPr/>
          </p:nvGrpSpPr>
          <p:grpSpPr>
            <a:xfrm>
              <a:off x="233280" y="2975040"/>
              <a:ext cx="2033640" cy="984240"/>
              <a:chOff x="233280" y="2975040"/>
              <a:chExt cx="2033640" cy="984240"/>
            </a:xfrm>
          </p:grpSpPr>
          <p:grpSp>
            <p:nvGrpSpPr>
              <p:cNvPr id="308" name="Group 218"/>
              <p:cNvGrpSpPr/>
              <p:nvPr/>
            </p:nvGrpSpPr>
            <p:grpSpPr>
              <a:xfrm>
                <a:off x="233280" y="2975040"/>
                <a:ext cx="677880" cy="492120"/>
                <a:chOff x="233280" y="2975040"/>
                <a:chExt cx="677880" cy="492120"/>
              </a:xfrm>
            </p:grpSpPr>
            <p:sp>
              <p:nvSpPr>
                <p:cNvPr id="309" name="Rectangle 211"/>
                <p:cNvSpPr/>
                <p:nvPr/>
              </p:nvSpPr>
              <p:spPr>
                <a:xfrm>
                  <a:off x="301680" y="2975040"/>
                  <a:ext cx="541080" cy="49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x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217"/>
                <p:cNvSpPr/>
                <p:nvPr/>
              </p:nvSpPr>
              <p:spPr>
                <a:xfrm>
                  <a:off x="233280" y="2975040"/>
                  <a:ext cx="677880" cy="49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Group 220"/>
              <p:cNvGrpSpPr/>
              <p:nvPr/>
            </p:nvGrpSpPr>
            <p:grpSpPr>
              <a:xfrm>
                <a:off x="911160" y="2975040"/>
                <a:ext cx="677880" cy="492120"/>
                <a:chOff x="911160" y="2975040"/>
                <a:chExt cx="677880" cy="492120"/>
              </a:xfrm>
            </p:grpSpPr>
            <p:sp>
              <p:nvSpPr>
                <p:cNvPr id="312" name="Rectangle 212"/>
                <p:cNvSpPr/>
                <p:nvPr/>
              </p:nvSpPr>
              <p:spPr>
                <a:xfrm>
                  <a:off x="979560" y="2975040"/>
                  <a:ext cx="541080" cy="49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y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Rectangle 219"/>
                <p:cNvSpPr/>
                <p:nvPr/>
              </p:nvSpPr>
              <p:spPr>
                <a:xfrm>
                  <a:off x="911160" y="2975040"/>
                  <a:ext cx="677880" cy="49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222"/>
              <p:cNvGrpSpPr/>
              <p:nvPr/>
            </p:nvGrpSpPr>
            <p:grpSpPr>
              <a:xfrm>
                <a:off x="1589040" y="2975040"/>
                <a:ext cx="677880" cy="492120"/>
                <a:chOff x="1589040" y="2975040"/>
                <a:chExt cx="677880" cy="492120"/>
              </a:xfrm>
            </p:grpSpPr>
            <p:sp>
              <p:nvSpPr>
                <p:cNvPr id="315" name="Rectangle 213"/>
                <p:cNvSpPr/>
                <p:nvPr/>
              </p:nvSpPr>
              <p:spPr>
                <a:xfrm>
                  <a:off x="1657440" y="2975040"/>
                  <a:ext cx="541080" cy="49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z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221"/>
                <p:cNvSpPr/>
                <p:nvPr/>
              </p:nvSpPr>
              <p:spPr>
                <a:xfrm>
                  <a:off x="1589040" y="2975040"/>
                  <a:ext cx="677880" cy="49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224"/>
              <p:cNvGrpSpPr/>
              <p:nvPr/>
            </p:nvGrpSpPr>
            <p:grpSpPr>
              <a:xfrm>
                <a:off x="233280" y="3467160"/>
                <a:ext cx="677880" cy="492120"/>
                <a:chOff x="233280" y="3467160"/>
                <a:chExt cx="677880" cy="492120"/>
              </a:xfrm>
            </p:grpSpPr>
            <p:sp>
              <p:nvSpPr>
                <p:cNvPr id="318" name="Rectangle 214"/>
                <p:cNvSpPr/>
                <p:nvPr/>
              </p:nvSpPr>
              <p:spPr>
                <a:xfrm>
                  <a:off x="301680" y="3467160"/>
                  <a:ext cx="541080" cy="49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3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Rectangle 223"/>
                <p:cNvSpPr/>
                <p:nvPr/>
              </p:nvSpPr>
              <p:spPr>
                <a:xfrm>
                  <a:off x="233280" y="3467160"/>
                  <a:ext cx="677880" cy="49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226"/>
              <p:cNvGrpSpPr/>
              <p:nvPr/>
            </p:nvGrpSpPr>
            <p:grpSpPr>
              <a:xfrm>
                <a:off x="911160" y="3467160"/>
                <a:ext cx="677880" cy="492120"/>
                <a:chOff x="911160" y="3467160"/>
                <a:chExt cx="677880" cy="492120"/>
              </a:xfrm>
            </p:grpSpPr>
            <p:sp>
              <p:nvSpPr>
                <p:cNvPr id="321" name="Rectangle 215"/>
                <p:cNvSpPr/>
                <p:nvPr/>
              </p:nvSpPr>
              <p:spPr>
                <a:xfrm>
                  <a:off x="979560" y="3467160"/>
                  <a:ext cx="541080" cy="49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2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Rectangle 225"/>
                <p:cNvSpPr/>
                <p:nvPr/>
              </p:nvSpPr>
              <p:spPr>
                <a:xfrm>
                  <a:off x="911160" y="3467160"/>
                  <a:ext cx="677880" cy="49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228"/>
              <p:cNvGrpSpPr/>
              <p:nvPr/>
            </p:nvGrpSpPr>
            <p:grpSpPr>
              <a:xfrm>
                <a:off x="1589040" y="3467160"/>
                <a:ext cx="677880" cy="492120"/>
                <a:chOff x="1589040" y="3467160"/>
                <a:chExt cx="677880" cy="492120"/>
              </a:xfrm>
            </p:grpSpPr>
            <p:sp>
              <p:nvSpPr>
                <p:cNvPr id="324" name="Rectangle 216"/>
                <p:cNvSpPr/>
                <p:nvPr/>
              </p:nvSpPr>
              <p:spPr>
                <a:xfrm>
                  <a:off x="1657440" y="3467160"/>
                  <a:ext cx="541080" cy="49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1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Rectangle 227"/>
                <p:cNvSpPr/>
                <p:nvPr/>
              </p:nvSpPr>
              <p:spPr>
                <a:xfrm>
                  <a:off x="1589040" y="3467160"/>
                  <a:ext cx="677880" cy="49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6" name="Rectangle 230"/>
            <p:cNvSpPr/>
            <p:nvPr/>
          </p:nvSpPr>
          <p:spPr>
            <a:xfrm>
              <a:off x="228600" y="2971800"/>
              <a:ext cx="2043000" cy="990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232"/>
          <p:cNvSpPr/>
          <p:nvPr/>
        </p:nvSpPr>
        <p:spPr>
          <a:xfrm>
            <a:off x="380880" y="4572000"/>
            <a:ext cx="8534520" cy="2104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4,22,15,15  23,12,13,22  21,12,9  4,12,9,16,18,13,20  12,6,7  7,19,18,8  14,22,8,8,26,20,22.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13,12,4  4,9,18,7,22  2,12,6,9  12,4,13  24,12,23,22,23  13,12,7,22  6,8,18,13,20  7,19,22  8,26,14,22  24,12,23,22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609480" y="83808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Think of as many things to eat or drink that begin with the letter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657600" y="2819520"/>
            <a:ext cx="2895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0" spc="-1" strike="noStrike">
                <a:solidFill>
                  <a:srgbClr val="000000"/>
                </a:solidFill>
                <a:latin typeface="Cooper Black"/>
              </a:rPr>
              <a:t>T</a:t>
            </a:r>
            <a:endParaRPr b="1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83868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432432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337176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8"/>
          <p:cNvGraphicFramePr/>
          <p:nvPr/>
        </p:nvGraphicFramePr>
        <p:xfrm>
          <a:off x="457200" y="2819520"/>
          <a:ext cx="2666880" cy="206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2666880" cy="20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066680" y="609480"/>
            <a:ext cx="7315200" cy="30186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you could interview King Henry VIII what would you ask him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2819520" y="3657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609480" y="1371600"/>
            <a:ext cx="8001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Think of as many things as you can that are shorter than a metre but longer than 50 cm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01464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4572000" y="3733920"/>
            <a:ext cx="38862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685800" y="533520"/>
            <a:ext cx="7848720" cy="457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Write as many facts as you can about       </a:t>
            </a:r>
            <a:r>
              <a:rPr b="0" lang="en-GB" sz="13000" spc="-1" strike="noStrike">
                <a:solidFill>
                  <a:srgbClr val="ff0000"/>
                </a:solidFill>
                <a:latin typeface="Cooper Black"/>
                <a:ea typeface="Times New Roman"/>
              </a:rPr>
              <a:t>21</a:t>
            </a:r>
            <a:endParaRPr b="1" lang="en-US" sz="1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oper Black"/>
              </a:rPr>
              <a:t>Eg.  It is an odd numb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1219320" y="28954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609480" y="38088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Think of as many ways to complete this word as possibl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609480" y="3505320"/>
            <a:ext cx="8077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600" spc="-1" strike="noStrike">
                <a:solidFill>
                  <a:srgbClr val="000000"/>
                </a:solidFill>
                <a:latin typeface="Comic Sans MS"/>
              </a:rPr>
              <a:t>sp_______g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3"/>
          <p:cNvSpPr/>
          <p:nvPr/>
        </p:nvSpPr>
        <p:spPr>
          <a:xfrm>
            <a:off x="219060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http://www.travel.hickerphoto.com/images/cape_palliser_lighthouse.jpg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504036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4"/>
          <p:cNvSpPr/>
          <p:nvPr/>
        </p:nvSpPr>
        <p:spPr>
          <a:xfrm>
            <a:off x="228600" y="54100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Think of “wow words” or phrases to describe this picture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6172200" y="3657600"/>
            <a:ext cx="2666880" cy="1600200"/>
          </a:xfrm>
          <a:prstGeom prst="cloudCallout">
            <a:avLst>
              <a:gd name="adj1" fmla="val 56370"/>
              <a:gd name="adj2" fmla="val 49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can you see, hear and smel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6629400" y="380880"/>
            <a:ext cx="1905120" cy="1371600"/>
          </a:xfrm>
          <a:prstGeom prst="cloudCallout">
            <a:avLst>
              <a:gd name="adj1" fmla="val -70416"/>
              <a:gd name="adj2" fmla="val 23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w does it make you fee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Using SOME or ALL of these digits and symbols, make as many different sums as possib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4  5  6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304920" y="48006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x   =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457200" y="5943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y to work out the answer too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762120" y="5334120"/>
            <a:ext cx="7543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 what is happening in this picture.  What will happen next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http://frank.itlab.us/Plant_City_2004/flying_birds.jpg"/>
          <p:cNvPicPr/>
          <p:nvPr/>
        </p:nvPicPr>
        <p:blipFill>
          <a:blip r:embed="rId1"/>
          <a:stretch/>
        </p:blipFill>
        <p:spPr>
          <a:xfrm>
            <a:off x="762120" y="152280"/>
            <a:ext cx="754380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3633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3"/>
          <p:cNvGraphicFramePr/>
          <p:nvPr/>
        </p:nvGraphicFramePr>
        <p:xfrm>
          <a:off x="4724280" y="2514600"/>
          <a:ext cx="3942000" cy="396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2514600"/>
                    <a:ext cx="3942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Text Box 4"/>
          <p:cNvSpPr/>
          <p:nvPr/>
        </p:nvSpPr>
        <p:spPr>
          <a:xfrm>
            <a:off x="380880" y="6858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Comic Sans MS"/>
              </a:rPr>
              <a:t>Think of as many countries as you can that begin with the letter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457200" y="2362320"/>
            <a:ext cx="3733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1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514600" y="13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images.google.co.uk/url?q=http://www.ent.iastate.edu/images/lepidoptera/monarch/monarchonalf.jpg&amp;usg=AFQjCNE-09PmEZjzDAOla6fVXFgFrPh5vw"/>
          <p:cNvPicPr/>
          <p:nvPr/>
        </p:nvPicPr>
        <p:blipFill>
          <a:blip r:embed="rId1"/>
          <a:stretch/>
        </p:blipFill>
        <p:spPr>
          <a:xfrm>
            <a:off x="1676520" y="1295280"/>
            <a:ext cx="5284800" cy="5334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1371600" y="228600"/>
            <a:ext cx="654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omic Sans MS"/>
              </a:rPr>
              <a:t>Think of “wow words” or phrases to describe this picture</a:t>
            </a:r>
            <a:r>
              <a:rPr b="0" i="1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6477120" y="2895480"/>
            <a:ext cx="2438280" cy="1524240"/>
          </a:xfrm>
          <a:prstGeom prst="cloudCallout">
            <a:avLst>
              <a:gd name="adj1" fmla="val -48240"/>
              <a:gd name="adj2" fmla="val -1183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can you see, hear and smel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 flipH="1">
            <a:off x="-720" y="1447920"/>
            <a:ext cx="2438280" cy="1143000"/>
          </a:xfrm>
          <a:prstGeom prst="cloudCallout">
            <a:avLst>
              <a:gd name="adj1" fmla="val -24611"/>
              <a:gd name="adj2" fmla="val 7027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w does it make you fee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"/>
          <p:cNvSpPr/>
          <p:nvPr/>
        </p:nvSpPr>
        <p:spPr>
          <a:xfrm>
            <a:off x="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838080" y="762120"/>
            <a:ext cx="693432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ou notice a big hole in the ground with a FOR SALE sign next to it. Who would buy this hole?  Why would they need it?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388620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6"/>
          <p:cNvGraphicFramePr/>
          <p:nvPr/>
        </p:nvGraphicFramePr>
        <p:xfrm>
          <a:off x="762120" y="4191120"/>
          <a:ext cx="25146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191120"/>
                    <a:ext cx="2514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Oval 8"/>
          <p:cNvSpPr/>
          <p:nvPr/>
        </p:nvSpPr>
        <p:spPr>
          <a:xfrm>
            <a:off x="2590920" y="5943600"/>
            <a:ext cx="320040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Using SOME or ALL of these digits and symbols, make as many different sums as possib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1  2  3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304920" y="48006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+   -   =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457200" y="5943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y to work out the answer too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2476440" y="9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http://homepage.mac.com/eceisner/Insects/Bees_and_Wasps/bumblebee.jpg"/>
          <p:cNvPicPr/>
          <p:nvPr/>
        </p:nvPicPr>
        <p:blipFill>
          <a:blip r:embed="rId1"/>
          <a:stretch/>
        </p:blipFill>
        <p:spPr>
          <a:xfrm>
            <a:off x="0" y="0"/>
            <a:ext cx="5967360" cy="70102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4"/>
          <p:cNvSpPr/>
          <p:nvPr/>
        </p:nvSpPr>
        <p:spPr>
          <a:xfrm>
            <a:off x="5791320" y="0"/>
            <a:ext cx="3352680" cy="6677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Comic Sans MS"/>
              </a:rPr>
              <a:t>Think of “wow words” or phrases to describe this picture</a:t>
            </a:r>
            <a:r>
              <a:rPr b="0" i="1" lang="en-GB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5"/>
          <p:cNvSpPr/>
          <p:nvPr/>
        </p:nvSpPr>
        <p:spPr>
          <a:xfrm flipH="1">
            <a:off x="3351960" y="5334120"/>
            <a:ext cx="2667240" cy="1523880"/>
          </a:xfrm>
          <a:prstGeom prst="cloudCallout">
            <a:avLst>
              <a:gd name="adj1" fmla="val 71249"/>
              <a:gd name="adj2" fmla="val 1728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can you see, hear and smel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6"/>
          <p:cNvSpPr/>
          <p:nvPr/>
        </p:nvSpPr>
        <p:spPr>
          <a:xfrm flipH="1">
            <a:off x="0" y="152280"/>
            <a:ext cx="2362320" cy="1600200"/>
          </a:xfrm>
          <a:prstGeom prst="cloudCallout">
            <a:avLst>
              <a:gd name="adj1" fmla="val 42606"/>
              <a:gd name="adj2" fmla="val 84819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w does it make you fee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762120" y="914400"/>
            <a:ext cx="8076960" cy="344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One morning you wake up and you realise you can talk to animals. What would this dog say to you?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How would you reply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358128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" descr=""/>
          <p:cNvPicPr/>
          <p:nvPr/>
        </p:nvPicPr>
        <p:blipFill>
          <a:blip r:embed="rId1"/>
          <a:stretch/>
        </p:blipFill>
        <p:spPr>
          <a:xfrm>
            <a:off x="3200400" y="3733920"/>
            <a:ext cx="54864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685800" y="533520"/>
            <a:ext cx="7848720" cy="457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Write as many facts as you can about     </a:t>
            </a:r>
            <a:r>
              <a:rPr b="0" lang="en-GB" sz="13000" spc="-1" strike="noStrike">
                <a:solidFill>
                  <a:srgbClr val="ff0000"/>
                </a:solidFill>
                <a:latin typeface="Cooper Black"/>
                <a:ea typeface="Times New Roman"/>
              </a:rPr>
              <a:t>53</a:t>
            </a:r>
            <a:endParaRPr b="1" lang="en-US" sz="1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oper Black"/>
              </a:rPr>
              <a:t>Eg.  It is a 2-digit numb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55261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National First Font"/>
              </a:rPr>
              <a:t>Using SOME or ALL of these digits and symbols, make as many different sums as possib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3  4  5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04920" y="48006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+   -   =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457200" y="5943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y to work out the answer too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171468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http://www.alanbauer.com/images/Patterns%20in%20Nature/Spider%20web%20with%20d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5636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4"/>
          <p:cNvSpPr/>
          <p:nvPr/>
        </p:nvSpPr>
        <p:spPr>
          <a:xfrm>
            <a:off x="0" y="5791320"/>
            <a:ext cx="91440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Comic Sans MS"/>
              </a:rPr>
              <a:t>Think of “wow words” or phrases to describe this picture</a:t>
            </a:r>
            <a:r>
              <a:rPr b="0" i="1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0" y="228600"/>
            <a:ext cx="2743200" cy="2057400"/>
          </a:xfrm>
          <a:prstGeom prst="cloudCallout">
            <a:avLst>
              <a:gd name="adj1" fmla="val 62675"/>
              <a:gd name="adj2" fmla="val -577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oper Black"/>
              </a:rPr>
              <a:t>What can you see, hear and smel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6248520" y="533520"/>
            <a:ext cx="2590560" cy="1981080"/>
          </a:xfrm>
          <a:prstGeom prst="cloudCallout">
            <a:avLst>
              <a:gd name="adj1" fmla="val -51898"/>
              <a:gd name="adj2" fmla="val -645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oper Black"/>
              </a:rPr>
              <a:t>How does it make you fee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1219320" y="28954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609480" y="38088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Think of as many ways to complete this word as possibl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609480" y="3809880"/>
            <a:ext cx="8077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600" spc="-1" strike="noStrike">
                <a:solidFill>
                  <a:srgbClr val="000000"/>
                </a:solidFill>
                <a:latin typeface="Comic Sans MS"/>
              </a:rPr>
              <a:t>a_______t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Using SOME or ALL of these digits and symbols, make as many different sums as possib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6  7  8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04920" y="48006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+   -  =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457200" y="5943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y to work out the answer too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3"/>
          <p:cNvSpPr/>
          <p:nvPr/>
        </p:nvSpPr>
        <p:spPr>
          <a:xfrm>
            <a:off x="533520" y="533520"/>
            <a:ext cx="8229600" cy="32634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everything in the world had to be all the same colour, what colour would you choose, and why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Using SOME or ALL of these digits and symbols, make as many different sums as possib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2  4  6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480060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-   =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57200" y="5943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y to work out the answer too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c9fc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3"/>
          <p:cNvSpPr/>
          <p:nvPr/>
        </p:nvSpPr>
        <p:spPr>
          <a:xfrm>
            <a:off x="195732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http://www.londonblackcabs.co.uk/Parcel.jpg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47228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4"/>
          <p:cNvSpPr/>
          <p:nvPr/>
        </p:nvSpPr>
        <p:spPr>
          <a:xfrm>
            <a:off x="228600" y="5486400"/>
            <a:ext cx="86868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Tell me what is inside this parcel and why it is so import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2203560"/>
            <a:ext cx="9144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371600" y="3422520"/>
            <a:ext cx="2973240" cy="10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57200" y="3049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 at the clouds in this photo and describe what they look like to you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http://www.xhaven.net/poetkurbs/Clouds.jpg"/>
          <p:cNvPicPr/>
          <p:nvPr/>
        </p:nvPicPr>
        <p:blipFill>
          <a:blip r:embed="rId1"/>
          <a:srcRect l="0" t="4920" r="0" b="0"/>
          <a:stretch/>
        </p:blipFill>
        <p:spPr>
          <a:xfrm>
            <a:off x="838080" y="1600200"/>
            <a:ext cx="7467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295280" y="1295280"/>
            <a:ext cx="556272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re would these dwarves go to on holiday? Why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41964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48006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Using SOME or ALL of these digits and symbols, make as many different sums as possib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3  6  9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04920" y="48006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+   =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57200" y="5943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y to work out the answer too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219060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www.tahiti.pictures-pacific.com/bora-bora/shark.jpg"/>
          <p:cNvPicPr/>
          <p:nvPr/>
        </p:nvPicPr>
        <p:blipFill>
          <a:blip r:embed="rId2"/>
          <a:stretch/>
        </p:blipFill>
        <p:spPr>
          <a:xfrm>
            <a:off x="990720" y="1295280"/>
            <a:ext cx="7543800" cy="5280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609480" y="152280"/>
            <a:ext cx="80773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Think of “wow words” or phrases to describe this picture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4648320" y="5181480"/>
            <a:ext cx="2438280" cy="1524240"/>
          </a:xfrm>
          <a:prstGeom prst="cloudCallout">
            <a:avLst>
              <a:gd name="adj1" fmla="val -61134"/>
              <a:gd name="adj2" fmla="val 44791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can you see, hear and smel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304920" y="5105520"/>
            <a:ext cx="1904760" cy="1371600"/>
          </a:xfrm>
          <a:prstGeom prst="cloudCallout">
            <a:avLst>
              <a:gd name="adj1" fmla="val 56499"/>
              <a:gd name="adj2" fmla="val -6053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w does it make you fee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07:35:10Z</dcterms:created>
  <dc:creator>The Headteacher</dc:creator>
  <dc:description/>
  <dc:language>en-US</dc:language>
  <cp:lastModifiedBy>Jim</cp:lastModifiedBy>
  <dcterms:modified xsi:type="dcterms:W3CDTF">2008-08-21T19:42:50Z</dcterms:modified>
  <cp:revision>10</cp:revision>
  <dc:subject/>
  <dc:title>3 Minute Challenge</dc:title>
</cp:coreProperties>
</file>